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0A5-C5B5-4DDE-B167-8D578F34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67D-E944-49AE-896A-70A8828C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7D3-6121-444C-8C4C-8156BA3C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7A4-A7E1-401F-A4BA-D79D79F9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E6C-A4AE-4F75-8630-E3E397B9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59F-EEEA-4829-AB3B-581DDE27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401-76A0-4885-A310-5AB4587F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791-9E2E-47D5-BE2B-8F90D503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E74-06C8-4A6B-9B16-3024FAD1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3E7-EAF7-48B1-BCDB-ACC8BB8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440-EE4C-4D63-A2AA-47F5EC3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703-0D25-4DE2-AA2D-367C21B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012-5DEE-45D3-80C6-0F520C389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2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58920" y="2525040"/>
            <a:ext cx="63291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АВЉ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КЛИНИЧ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ИТ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лавни задаци у раду са болесницима због којих се постављају питањ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линички налаз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на одговарајући начин тумачити симптоме и знаке код болесник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тиологиј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наћи узрок боле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рангирати све могуће дијагнозе по вероватноћи, озбиљности и подложности лечењ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ијагностички тес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изабрати и интерпретирати дијагностички те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Прогноз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проценити вероватни ток болести код болесника и предвидети компликац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како изабрати лечење које више користи него што ште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и које вреди напора и трошко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евенција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открити и изменити факторе ризика, како рано открити болест скрининго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авршавање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ако побољшати своје клиничке вештине и своју пракс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ЧЕТИРИ ЕЛЕМЕНТА ДОБРОГ КЛИНИЧКОГ ПИТАЊ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435880" cy="4705200"/>
        </p:xfrm>
        <a:graphic>
          <a:graphicData uri="http://schemas.openxmlformats.org/drawingml/2006/table">
            <a:tbl>
              <a:tblPr/>
              <a:tblGrid>
                <a:gridCol w="1090440"/>
                <a:gridCol w="1936800"/>
                <a:gridCol w="1913040"/>
                <a:gridCol w="1800360"/>
                <a:gridCol w="169524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Болесник или пробл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Интервенција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зрок, третман, ит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оређ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с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ве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Како бих описао групу болесника сличних мом? Будите прецизни али кратк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а је главна интервенција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је главна алтернатива интервенцији коју планирам? Будите специфич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јте се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 могу очекивати да ћу постићи? или Шта ће интервенција заиста постићи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болесника са инсуфицијенцијом срца због дилатативне кардиомиопатије, који су у синусном ритму……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да ли би примена варфарина код болесника који прима стандардну терапију за инсуфицијенцију срца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када се упореди са стандардном терапијом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ће мањи морталитет и морбидитет од тромбоемболиј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ли је то вредно повећаног ризика од крвављењ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Госпођиц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Драгица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год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ећ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сетак дана пати од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ерианалне фист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ба да добије антибиотик који ће излечити ову инфекциј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Читала је о томе у новин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видела је да се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д фистуле даје више антибиотика, али се најчешће помињу ципрофлоксацин и метронидазо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енутно има болове, а температура је повишена на 37,5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ЛИНИЧКО ПИТАЊ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 л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ципрофлоксаци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са већом вероватноћом од </a:t>
            </a:r>
            <a:r>
              <a:rPr b="0" lang="sr-CS" sz="3200" spc="-1" strike="noStrike">
                <a:solidFill>
                  <a:srgbClr val="00b050"/>
                </a:solidFill>
                <a:latin typeface="Times New Roman"/>
              </a:rPr>
              <a:t>метронидазол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довести до </a:t>
            </a:r>
            <a:r>
              <a:rPr b="0" lang="sr-CS" sz="3200" spc="-1" strike="noStrike">
                <a:solidFill>
                  <a:srgbClr val="7030a0"/>
                </a:solidFill>
                <a:latin typeface="Times New Roman"/>
              </a:rPr>
              <a:t>излече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cc0066"/>
                </a:solidFill>
                <a:latin typeface="Times New Roman"/>
              </a:rPr>
              <a:t>перианалне фистул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785960" y="2500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 ли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ципрофлоксаци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са већом вероватноћом од </a:t>
            </a:r>
            <a:r>
              <a:rPr b="0" lang="sr-CS" sz="1800" spc="-1" strike="noStrike">
                <a:solidFill>
                  <a:srgbClr val="00b050"/>
                </a:solidFill>
                <a:latin typeface="Times New Roman"/>
              </a:rPr>
              <a:t>метронидазол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довести до </a:t>
            </a:r>
            <a:r>
              <a:rPr b="0" lang="sr-CS" sz="1800" spc="-1" strike="noStrike">
                <a:solidFill>
                  <a:srgbClr val="7030a0"/>
                </a:solidFill>
                <a:latin typeface="Times New Roman"/>
              </a:rPr>
              <a:t>излечењ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cc0066"/>
                </a:solidFill>
                <a:latin typeface="Times New Roman"/>
              </a:rPr>
              <a:t>перианалне фистул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6368400" y="5214960"/>
            <a:ext cx="2428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облем или болес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7139160" y="1285920"/>
            <a:ext cx="792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с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079360" y="1571760"/>
            <a:ext cx="1526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тервен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40440" y="4214880"/>
            <a:ext cx="1273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поређењ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Straight Arrow Connector 11"/>
          <p:cNvCxnSpPr/>
          <p:nvPr/>
        </p:nvCxnSpPr>
        <p:spPr>
          <a:xfrm>
            <a:off x="2999160" y="2000160"/>
            <a:ext cx="358200" cy="5724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12"/>
          <p:cNvCxnSpPr/>
          <p:nvPr/>
        </p:nvCxnSpPr>
        <p:spPr>
          <a:xfrm flipV="1">
            <a:off x="1428840" y="3071520"/>
            <a:ext cx="429120" cy="1072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13"/>
          <p:cNvCxnSpPr/>
          <p:nvPr/>
        </p:nvCxnSpPr>
        <p:spPr>
          <a:xfrm flipH="1">
            <a:off x="5285880" y="1571760"/>
            <a:ext cx="1643760" cy="1286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14"/>
          <p:cNvCxnSpPr/>
          <p:nvPr/>
        </p:nvCxnSpPr>
        <p:spPr>
          <a:xfrm flipH="1" flipV="1">
            <a:off x="5940000" y="3071520"/>
            <a:ext cx="1418400" cy="2000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5-08-02T12:22:33Z</dcterms:modified>
  <cp:revision>59</cp:revision>
  <dc:subject/>
  <dc:title>Slide 1</dc:title>
</cp:coreProperties>
</file>